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B47-0C3A-4091-AA83-BFC0CAF2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083-0709-4251-99B5-748AECE3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85A-AF52-4867-A3A4-4E2626F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15E-5A50-47A8-9FB9-FAF96B40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9CDB-2F9D-4522-8D69-AB14A39D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8CD-52B7-4BEF-BD70-0283DDD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688B-4248-4FFC-8A44-C1FB1A2D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166-57E3-4EE9-9617-B62CFF6C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3E06-656F-449B-BB4B-C37B6A4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A481-BC1B-4688-AB32-8B387F6D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803A-0C10-46BE-BA25-06C82A0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ABD-48CD-4302-8AFA-3027385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9968-45B8-436E-9E9B-91F1F2A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D344-9AA6-4985-8955-170B68E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D608-A304-4C03-B3E8-4717D8A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388F-38D9-490F-9743-F5B5E5CA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9378-5A90-427C-B851-AFE7BE16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853-0E27-40FE-A1C2-F251BE12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EA6-B30E-497D-BE42-368AE0E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ABD-AD07-4493-A111-CAB3429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BEE-5462-4DE4-8A58-307CDAB7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878-C279-49BE-AC18-A2FA415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C6C-D9A9-41C4-B545-7DCE5DC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EF2-5043-4A9E-991D-49359BD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CBD8-0F3D-48D8-9F59-E0B9F5C862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60C-2994-4E47-88FC-25A15913B7E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ismillah own copy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mon low cost non-projected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har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obil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Real th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ictur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rap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od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Board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oard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. 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riting Bo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alk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rker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.  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Display Bo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 Cloth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  Magnetic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  Bulletin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ow Non-Projected Visual Aids Can Be Helpful for teacher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feel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eas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mfor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can teach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nfidentl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Eye contact with student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possi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ow teacher to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ove around the r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w Non-Projected Visual Aids Can Be Helpful for studen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tudents feel comfortabl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can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ake/record the not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easi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Learning become eas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or stud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attend the lesson attentive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take interest in les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participate in les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inciples to Choose the Visual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levant with the objectives of teach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hould be prepared by the teacher (preferabl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oose low cost materials preferab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ariety in selection of ai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void information overlo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sent simple ideas that can easily stated verbal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from the objection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priate size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Expens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ealing for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irections for the Use of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lay/ pace proper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y to understand before coming in the cl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how at the time of explan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lay on the central part in front of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nd on left side while us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intain eye contact with your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pointer to point out the key-point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ain in easy words/wa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main in contact with students while explaining the ai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y to involve students in explan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k questions &amp; stimulate discuss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ow students to write main points on their notebook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move aid after the u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ve those material that can be used aga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rners will prepare a chart to teach primary cla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4"/>
          <p:cNvSpPr/>
          <p:nvPr/>
        </p:nvSpPr>
        <p:spPr>
          <a:xfrm>
            <a:off x="1143000" y="2057400"/>
            <a:ext cx="6705720" cy="3495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 IS THE DOOR TO TOMORROW”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9600" spc="-1" strike="noStrike">
                <a:solidFill>
                  <a:srgbClr val="eaeaea"/>
                </a:solidFill>
                <a:latin typeface="Times New Roman"/>
              </a:rPr>
              <a:t>Thanks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4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Helping aids/ AUDIO VISUAL AIDS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uhammad Shaki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bjectives of the s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nderstand the concept of helping 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study the Importance of helping 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identify the types of helping a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know how it will be helpful for teachers and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suggest some directions how to use helping aids in cla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cc"/>
                </a:solidFill>
                <a:latin typeface="Arial"/>
              </a:rPr>
              <a:t>Helping aids /AUDIO VISUAL AID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 materials that can be used to enhance the learning experiences of students is called helping aids.( soul, 2006-7,p:36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le of audio visual a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 helping aids work like a vehicle through which message can be conveyed to learners (Ellington,Percival &amp; Race (200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2514600" y="3581280"/>
          <a:ext cx="380988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581280"/>
                    <a:ext cx="38098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portance of helping a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ing aids create motiv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aching learning process become pleasan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develops the sensation power of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is useful for slow learn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enhances the practical power in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lessens the use of traditional method in teach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saves the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 consulates psychological aspect of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ypes of Helping Aid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io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io 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Visual aid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jected 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ids that involve the us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 projecto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n projected visual a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ids that do not involv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se of project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roject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4:31:47Z</dcterms:created>
  <dc:creator>JBL</dc:creator>
  <dc:description/>
  <dc:language>en-US</dc:language>
  <cp:lastModifiedBy>Muhammad Shakir</cp:lastModifiedBy>
  <cp:lastPrinted>2017-01-13T08:09:28Z</cp:lastPrinted>
  <dcterms:modified xsi:type="dcterms:W3CDTF">2017-01-13T08:10:42Z</dcterms:modified>
  <cp:revision>43</cp:revision>
  <dc:subject/>
  <dc:title>AUDIO VISUAL AIDS</dc:title>
</cp:coreProperties>
</file>